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7.png" ContentType="image/png"/>
  <Override PartName="/ppt/media/image56.png" ContentType="image/png"/>
  <Override PartName="/ppt/media/image40.jpeg" ContentType="image/jpeg"/>
  <Override PartName="/ppt/media/image54.jpeg" ContentType="image/jpeg"/>
  <Override PartName="/ppt/media/image53.jpeg" ContentType="image/jpeg"/>
  <Override PartName="/ppt/media/image55.png" ContentType="image/png"/>
  <Override PartName="/ppt/media/image20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36.png" ContentType="image/png"/>
  <Override PartName="/ppt/media/image9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22.png" ContentType="image/png"/>
  <Override PartName="/ppt/media/image66.jpeg" ContentType="image/jpeg"/>
  <Override PartName="/ppt/media/image59.png" ContentType="image/png"/>
  <Override PartName="/ppt/media/image62.jpeg" ContentType="image/jpeg"/>
  <Override PartName="/ppt/media/image7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64.jpeg" ContentType="image/jpeg"/>
  <Override PartName="/ppt/media/image65.jpeg" ContentType="image/jpeg"/>
  <Override PartName="/ppt/media/image78.jpeg" ContentType="image/jpeg"/>
  <Override PartName="/ppt/media/image70.jpeg" ContentType="image/jpeg"/>
  <Override PartName="/ppt/media/image43.jpeg" ContentType="image/jpeg"/>
  <Override PartName="/ppt/media/image72.png" ContentType="image/png"/>
  <Override PartName="/ppt/media/image24.jpeg" ContentType="image/jpeg"/>
  <Override PartName="/ppt/media/image83.jpeg" ContentType="image/jpeg"/>
  <Override PartName="/ppt/media/image77.jpeg" ContentType="image/jpeg"/>
  <Override PartName="/ppt/media/image8.jpeg" ContentType="image/jpeg"/>
  <Override PartName="/ppt/media/image26.png" ContentType="image/png"/>
  <Override PartName="/ppt/media/image23.jpeg" ContentType="image/jpeg"/>
  <Override PartName="/ppt/media/image82.jpeg" ContentType="image/jpeg"/>
  <Override PartName="/ppt/media/image76.jpeg" ContentType="image/jpeg"/>
  <Override PartName="/ppt/media/image49.jpeg" ContentType="image/jpeg"/>
  <Override PartName="/ppt/media/image7.jpeg" ContentType="image/jpeg"/>
  <Override PartName="/ppt/media/image16.png" ContentType="image/png"/>
  <Override PartName="/ppt/media/image8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1.png" ContentType="image/png"/>
  <Override PartName="/ppt/media/image68.jpeg" ContentType="image/jpeg"/>
  <Override PartName="/ppt/media/image71.jpeg" ContentType="image/jpeg"/>
  <Override PartName="/ppt/media/image67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13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3AA-8330-4504-B126-CCB559B19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405E-D8EE-425D-848E-9076FFB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C5E5-E69B-4D4F-A9B6-34D410AD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5B4-12D7-460D-8AC1-97868446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A2A1-76F9-4D4A-8E19-6131F8650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168-B4C1-4061-85A9-88727C2B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9E6-AB25-4C3A-B369-71F69BE6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2ED-3943-48D9-B067-9FED8E1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687-B35D-4727-B835-4D492C4A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DA4-A877-426E-9375-07C62897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510-5135-4E22-9756-BD70FEAE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2B80-F139-4070-9336-5D214729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C23E-344C-4270-8119-E0426912F2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ikegershon@hotmail.com" TargetMode="External"/><Relationship Id="rId2" Type="http://schemas.openxmlformats.org/officeDocument/2006/relationships/hyperlink" Target="http://www.aaia.org.uk/pdf/Publications/AAIA%20Pupils%20Learning%20from%20Teachers&apos;%20Responses.pdf" TargetMode="External"/><Relationship Id="rId3" Type="http://schemas.openxmlformats.org/officeDocument/2006/relationships/hyperlink" Target="http://www.aaia.org.uk/pdf/Publications/AAIAformat4.pdf" TargetMode="External"/><Relationship Id="rId4" Type="http://schemas.openxmlformats.org/officeDocument/2006/relationships/hyperlink" Target="http://www.aaia.org.uk/pdf/asst_learning_practice.pdf" TargetMode="External"/><Relationship Id="rId5" Type="http://schemas.openxmlformats.org/officeDocument/2006/relationships/hyperlink" Target="http://community.tes.co.uk/forums/t/300200.aspx" TargetMode="External"/><Relationship Id="rId6" Type="http://schemas.openxmlformats.org/officeDocument/2006/relationships/hyperlink" Target="http://www.schoolhistory.co.uk/forum/lofiversion/index.php/t7669.html" TargetMode="External"/><Relationship Id="rId7" Type="http://schemas.openxmlformats.org/officeDocument/2006/relationships/hyperlink" Target="http://www.harford.edu/irc/assessment/FormativeAssessmentActivities.doc" TargetMode="External"/><Relationship Id="rId8" Type="http://schemas.openxmlformats.org/officeDocument/2006/relationships/hyperlink" Target="http://www.harford.edu/irc/assessment/FormativeAssessmentActivities.doc" TargetMode="External"/><Relationship Id="rId9" Type="http://schemas.openxmlformats.org/officeDocument/2006/relationships/hyperlink" Target="http://www.harford.edu/irc/assessment/FormativeAssessmentActivities.doc" TargetMode="External"/><Relationship Id="rId10" Type="http://schemas.openxmlformats.org/officeDocument/2006/relationships/hyperlink" Target="http://www.harford.edu/irc/assessment/FormativeAssessmentActivities.doc" TargetMode="External"/><Relationship Id="rId11" Type="http://schemas.openxmlformats.org/officeDocument/2006/relationships/hyperlink" Target="http://www.harford.edu/irc/assessment/FormativeAssessmentActivities.doc" TargetMode="External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0.xml"/><Relationship Id="rId11" Type="http://schemas.openxmlformats.org/officeDocument/2006/relationships/slide" Target="slide11.xml"/><Relationship Id="rId12" Type="http://schemas.openxmlformats.org/officeDocument/2006/relationships/slide" Target="slide12.xml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5.xml"/><Relationship Id="rId16" Type="http://schemas.openxmlformats.org/officeDocument/2006/relationships/slide" Target="slide16.xml"/><Relationship Id="rId17" Type="http://schemas.openxmlformats.org/officeDocument/2006/relationships/slide" Target="slide18.xml"/><Relationship Id="rId18" Type="http://schemas.openxmlformats.org/officeDocument/2006/relationships/slide" Target="slide17.xml"/><Relationship Id="rId19" Type="http://schemas.openxmlformats.org/officeDocument/2006/relationships/slide" Target="slide72.xml"/><Relationship Id="rId20" Type="http://schemas.openxmlformats.org/officeDocument/2006/relationships/slide" Target="slide19.xml"/><Relationship Id="rId21" Type="http://schemas.openxmlformats.org/officeDocument/2006/relationships/slide" Target="slide20.xml"/><Relationship Id="rId22" Type="http://schemas.openxmlformats.org/officeDocument/2006/relationships/slide" Target="slide21.xml"/><Relationship Id="rId23" Type="http://schemas.openxmlformats.org/officeDocument/2006/relationships/slide" Target="slide22.xml"/><Relationship Id="rId24" Type="http://schemas.openxmlformats.org/officeDocument/2006/relationships/slide" Target="slide23.xml"/><Relationship Id="rId25" Type="http://schemas.openxmlformats.org/officeDocument/2006/relationships/slide" Target="slide24.xml"/><Relationship Id="rId26" Type="http://schemas.openxmlformats.org/officeDocument/2006/relationships/slide" Target="slide25.xml"/><Relationship Id="rId27" Type="http://schemas.openxmlformats.org/officeDocument/2006/relationships/slide" Target="slide71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41.xml"/><Relationship Id="rId33" Type="http://schemas.openxmlformats.org/officeDocument/2006/relationships/slide" Target="slide30.xml"/><Relationship Id="rId34" Type="http://schemas.openxmlformats.org/officeDocument/2006/relationships/slide" Target="slide31.xml"/><Relationship Id="rId35" Type="http://schemas.openxmlformats.org/officeDocument/2006/relationships/slide" Target="slide32.xml"/><Relationship Id="rId36" Type="http://schemas.openxmlformats.org/officeDocument/2006/relationships/slide" Target="slide33.xml"/><Relationship Id="rId37" Type="http://schemas.openxmlformats.org/officeDocument/2006/relationships/slide" Target="slide34.xml"/><Relationship Id="rId38" Type="http://schemas.openxmlformats.org/officeDocument/2006/relationships/slide" Target="slide35.xml"/><Relationship Id="rId39" Type="http://schemas.openxmlformats.org/officeDocument/2006/relationships/slide" Target="slide36.xml"/><Relationship Id="rId40" Type="http://schemas.openxmlformats.org/officeDocument/2006/relationships/slide" Target="slide37.xml"/><Relationship Id="rId41" Type="http://schemas.openxmlformats.org/officeDocument/2006/relationships/slide" Target="slide38.xml"/><Relationship Id="rId42" Type="http://schemas.openxmlformats.org/officeDocument/2006/relationships/slide" Target="slide39.xml"/><Relationship Id="rId43" Type="http://schemas.openxmlformats.org/officeDocument/2006/relationships/slide" Target="slide42.xml"/><Relationship Id="rId44" Type="http://schemas.openxmlformats.org/officeDocument/2006/relationships/slide" Target="slide43.xml"/><Relationship Id="rId45" Type="http://schemas.openxmlformats.org/officeDocument/2006/relationships/slide" Target="slide44.xml"/><Relationship Id="rId46" Type="http://schemas.openxmlformats.org/officeDocument/2006/relationships/slide" Target="slide45.xml"/><Relationship Id="rId47" Type="http://schemas.openxmlformats.org/officeDocument/2006/relationships/slide" Target="slide46.xml"/><Relationship Id="rId48" Type="http://schemas.openxmlformats.org/officeDocument/2006/relationships/slide" Target="slide44.xml"/><Relationship Id="rId49" Type="http://schemas.openxmlformats.org/officeDocument/2006/relationships/slide" Target="slide47.xml"/><Relationship Id="rId50" Type="http://schemas.openxmlformats.org/officeDocument/2006/relationships/slide" Target="slide48.xml"/><Relationship Id="rId51" Type="http://schemas.openxmlformats.org/officeDocument/2006/relationships/slide" Target="slide49.xml"/><Relationship Id="rId52" Type="http://schemas.openxmlformats.org/officeDocument/2006/relationships/slide" Target="slide50.xml"/><Relationship Id="rId53" Type="http://schemas.openxmlformats.org/officeDocument/2006/relationships/slide" Target="slide51.xml"/><Relationship Id="rId54" Type="http://schemas.openxmlformats.org/officeDocument/2006/relationships/slide" Target="slide52.xml"/><Relationship Id="rId55" Type="http://schemas.openxmlformats.org/officeDocument/2006/relationships/slide" Target="slide53.xml"/><Relationship Id="rId56" Type="http://schemas.openxmlformats.org/officeDocument/2006/relationships/slide" Target="slide53.xml"/><Relationship Id="rId57" Type="http://schemas.openxmlformats.org/officeDocument/2006/relationships/slide" Target="slide53.xml"/><Relationship Id="rId58" Type="http://schemas.openxmlformats.org/officeDocument/2006/relationships/slide" Target="slide53.xml"/><Relationship Id="rId59" Type="http://schemas.openxmlformats.org/officeDocument/2006/relationships/slide" Target="slide53.xml"/><Relationship Id="rId60" Type="http://schemas.openxmlformats.org/officeDocument/2006/relationships/slide" Target="slide54.xml"/><Relationship Id="rId61" Type="http://schemas.openxmlformats.org/officeDocument/2006/relationships/slide" Target="slide55.xml"/><Relationship Id="rId62" Type="http://schemas.openxmlformats.org/officeDocument/2006/relationships/slide" Target="slide56.xml"/><Relationship Id="rId63" Type="http://schemas.openxmlformats.org/officeDocument/2006/relationships/slide" Target="slide57.xml"/><Relationship Id="rId64" Type="http://schemas.openxmlformats.org/officeDocument/2006/relationships/slide" Target="slide58.xml"/><Relationship Id="rId65" Type="http://schemas.openxmlformats.org/officeDocument/2006/relationships/slide" Target="slide59.xml"/><Relationship Id="rId66" Type="http://schemas.openxmlformats.org/officeDocument/2006/relationships/slide" Target="slide60.xml"/><Relationship Id="rId67" Type="http://schemas.openxmlformats.org/officeDocument/2006/relationships/slide" Target="slide61.xml"/><Relationship Id="rId68" Type="http://schemas.openxmlformats.org/officeDocument/2006/relationships/slide" Target="slide62.xml"/><Relationship Id="rId69" Type="http://schemas.openxmlformats.org/officeDocument/2006/relationships/slide" Target="slide63.xml"/><Relationship Id="rId70" Type="http://schemas.openxmlformats.org/officeDocument/2006/relationships/slide" Target="slide64.xml"/><Relationship Id="rId71" Type="http://schemas.openxmlformats.org/officeDocument/2006/relationships/slide" Target="slide65.xml"/><Relationship Id="rId72" Type="http://schemas.openxmlformats.org/officeDocument/2006/relationships/slide" Target="slide66.xml"/><Relationship Id="rId73" Type="http://schemas.openxmlformats.org/officeDocument/2006/relationships/slide" Target="slide67.xml"/><Relationship Id="rId74" Type="http://schemas.openxmlformats.org/officeDocument/2006/relationships/slide" Target="slide68.xml"/><Relationship Id="rId75" Type="http://schemas.openxmlformats.org/officeDocument/2006/relationships/slide" Target="slide69.xml"/><Relationship Id="rId76" Type="http://schemas.openxmlformats.org/officeDocument/2006/relationships/slide" Target="slide70.xml"/><Relationship Id="rId77" Type="http://schemas.openxmlformats.org/officeDocument/2006/relationships/image" Target="../media/image2.png"/><Relationship Id="rId7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hyperlink" Target="http://www.aaia.org.uk/pdf/Publications/AAIAformat4.pdf" TargetMode="Externa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classtools.net/" TargetMode="External"/><Relationship Id="rId2" Type="http://schemas.openxmlformats.org/officeDocument/2006/relationships/image" Target="../media/image6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ampus.manchester.ac.uk/ceebl/ebl/" TargetMode="External"/><Relationship Id="rId2" Type="http://schemas.openxmlformats.org/officeDocument/2006/relationships/image" Target="../media/image76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58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essment For Learning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de by Mike Gershon – 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kegershon@hotmail.co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0" y="3903840"/>
            <a:ext cx="857268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aia.org.uk/pdf/Publications/AAIA%20Pupils%20Learning%20from%20Teachers'%20Responses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aia.org.uk/pdf/Publications/AAIAformat4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aia.org.uk/pdf/asst_learning_practice.pdf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community.tes.co.uk/forums/t/300200.aspx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schoolhistory.co.uk/forum/lofiversion/index.php/t7669.html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harford.edu/irc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assessment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FormativeAssessmentActivities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doc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Open University Press, Maidenhead, 200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et al,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ing inside the black bo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(nferNelson, London,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ul Black and Dylan William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side the Black Box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nferNelson, London, 199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esting, Motivation and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200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ment Reform Group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ssessment for Learning,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(The Assessment Reform Group, Cambridge, 199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y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peopl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http://parentsandafl.standards.dfes.gov.uk/assets/wrapperbg1.jpg"/>
          <p:cNvPicPr/>
          <p:nvPr/>
        </p:nvPicPr>
        <p:blipFill>
          <a:blip r:embed="rId12"/>
          <a:stretch/>
        </p:blipFill>
        <p:spPr>
          <a:xfrm>
            <a:off x="1428840" y="1071720"/>
            <a:ext cx="3476520" cy="3031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572080" y="1500120"/>
            <a:ext cx="328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L is successful when embedded in teaching and learn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toolkit aims to help by presenting different facets, activities and tools for teachers to use in order to achiev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hope you find it usefu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xemplar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etting students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show them examples that m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clear what it is they are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o – and what they need to do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to meet the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mark exempla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ing the assessment criteria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 help model what is being ask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nd how it relates to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http://elgg.learnblog.net/news/files/1/20/DSC00101.JPG"/>
          <p:cNvPicPr/>
          <p:nvPr/>
        </p:nvPicPr>
        <p:blipFill>
          <a:blip r:embed="rId1"/>
          <a:srcRect l="0" t="0" r="0" b="4362"/>
          <a:stretch/>
        </p:blipFill>
        <p:spPr>
          <a:xfrm>
            <a:off x="4518000" y="1941480"/>
            <a:ext cx="4363920" cy="3130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y taking part in the proces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sessment, students gain a dee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derstanding of topics, the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 assessment and what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ing in their own work. This help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ke them more aware of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thus see their ow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arning in this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could self- or peer- ma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omework or assessm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could be done in pairs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dividually with a student-made 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ia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mark-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214880" y="2000160"/>
            <a:ext cx="4554360" cy="340992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aims cl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t lesson objectives on the board at the beginning of the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lk to students about why they are studying what they are study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ualise short-term aims in long-term aims (e.g. analysing Shakespeare will contribute to a wider knowledge of the cultural canon and stronger analytical skills among other long term ai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eck with students that they are clear about the aims of the lesson/unit/su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duce aims in conjunction with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http://www.cs.miami.edu/~tptp/Seminars/CASC/GIFS/Aims.JPG"/>
          <p:cNvPicPr/>
          <p:nvPr/>
        </p:nvPicPr>
        <p:blipFill>
          <a:blip r:embed="rId1"/>
          <a:stretch/>
        </p:blipFill>
        <p:spPr>
          <a:xfrm>
            <a:off x="4929120" y="1928880"/>
            <a:ext cx="3892680" cy="301608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Target 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the lesson more purposeful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by setting targets at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ginning about what you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 are going to 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can be referred to throug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and/or revisited in the plen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ould have to show 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have met targets in th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/or set targets for next les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leads the review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or unit using question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cit understanding from stud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cus could also fall up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ffectiveness of the lesson 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ilitating learning – i.e. can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 of ways that it could be alt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mprove their lear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acher could model review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ing the lesson in relatio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own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http://whitehead.mit.edu/news/paradigm/spring_2008/img/peer_review.jpg"/>
          <p:cNvPicPr/>
          <p:nvPr/>
        </p:nvPicPr>
        <p:blipFill>
          <a:blip r:embed="rId1"/>
          <a:stretch/>
        </p:blipFill>
        <p:spPr>
          <a:xfrm>
            <a:off x="4500720" y="1857240"/>
            <a:ext cx="4302000" cy="3103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review their own le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ither in groups or individually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 done as a plenary,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ni-plenary or as an activity to hel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nning for future revision 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ainder of the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www.secondarydandt.org/data/images/width120/reviewing.jpg"/>
          <p:cNvPicPr/>
          <p:nvPr/>
        </p:nvPicPr>
        <p:blipFill>
          <a:blip r:embed="rId1"/>
          <a:stretch/>
        </p:blipFill>
        <p:spPr>
          <a:xfrm>
            <a:off x="5072040" y="1643040"/>
            <a:ext cx="3294000" cy="46674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 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traffic lights as a visual means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owing understand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have red, amber and green cards which they show on their desks or in the air. (red = d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 understand, green = totally get i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s self-assess using traffic lights. The teacher could then record these visually in their mark boo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er assess presentations etc. with traffic li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http://gocomplainontheinternet.com/wp-content/uploads/2008/11/traffic_light.gif"/>
          <p:cNvPicPr/>
          <p:nvPr/>
        </p:nvPicPr>
        <p:blipFill>
          <a:blip r:embed="rId1"/>
          <a:stretch/>
        </p:blipFill>
        <p:spPr>
          <a:xfrm>
            <a:off x="5429160" y="1571760"/>
            <a:ext cx="326880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lf-assessment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give themselves targ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sed on their self-assess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learning goal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rded somewhere and revisi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i.e. inside cover of work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y could be compared to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rgets and the two brough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ensus if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http://www.primeprinciple.co.uk/images/how_does/graphic.jpg"/>
          <p:cNvPicPr/>
          <p:nvPr/>
        </p:nvPicPr>
        <p:blipFill>
          <a:blip r:embed="rId1"/>
          <a:stretch/>
        </p:blipFill>
        <p:spPr>
          <a:xfrm>
            <a:off x="4714920" y="1825560"/>
            <a:ext cx="3771720" cy="32544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 stars and a w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er assessment, ask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two stars and a w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stars = 2 things that are g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piece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wish = something they can impro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make it even b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ttp://www.pmbni.org.uk/img/photos/2stars.jpg"/>
          <p:cNvPicPr/>
          <p:nvPr/>
        </p:nvPicPr>
        <p:blipFill>
          <a:blip r:embed="rId1"/>
          <a:stretch/>
        </p:blipFill>
        <p:spPr>
          <a:xfrm>
            <a:off x="4714920" y="1500120"/>
            <a:ext cx="3751200" cy="4876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ticulate then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the opportunity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ticulate their thinking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swering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0 seconds silent thinking before any ans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instorm in pairs first for 2-3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some thoughts down before answ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with your neighbour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http://www.nimblefingers.ie/shop/images/microsoft/drump0001.jpg"/>
          <p:cNvPicPr/>
          <p:nvPr/>
        </p:nvPicPr>
        <p:blipFill>
          <a:blip r:embed="rId1"/>
          <a:stretch/>
        </p:blipFill>
        <p:spPr>
          <a:xfrm>
            <a:off x="5143680" y="2000160"/>
            <a:ext cx="3276360" cy="311472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214200" y="2000160"/>
            <a:ext cx="8713800" cy="34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Students write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Students ask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Comment-only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Mid-unit assessme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‘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Might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Wait-ti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Open vs close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Exemplar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tudent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Making aims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Lesson Target 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Teacher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Student Revie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Traffic Li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2 stars and a wi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Self-assessment Targe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One-Sentence Summar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Articulate then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Scene-Set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Tell your neighbo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Idea Thought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Bounc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Wait and reca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Incorrect Discus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Muddiest Poin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Devising Ques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Learning Journa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Redraft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Key featur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Invert the Ques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Improvement Guidanc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Comment Follow-up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Group feedbac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Peer Mar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Thum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Teach Collabor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Traffic-Light Revis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Generate and Answ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Student Mark-Schem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Group Answ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X and 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All you know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Correction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Laminated Criteria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Conveying Prog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Think through Talk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Discuss Word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Communic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Thoughtful Dialogu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Feedback Sandwi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What is good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Self-evalua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What is a 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‘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good</a:t>
            </a:r>
            <a:r>
              <a:rPr b="0" lang="ja-JP" sz="10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’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 question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Graphic Organis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KW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Talk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Post-It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Response Partner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Hands Dow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Question 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Regulating Learning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A B C D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Why is it best?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Show and Tell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Active Stud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Long and Short Ter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Minute Paper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Enquiry Question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Smiley Faces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Squa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Rectangle 4" descr=""/>
          <p:cNvPicPr/>
          <p:nvPr/>
        </p:nvPicPr>
        <p:blipFill>
          <a:blip r:embed="rId77"/>
          <a:stretch/>
        </p:blipFill>
        <p:spPr>
          <a:xfrm>
            <a:off x="2000160" y="274680"/>
            <a:ext cx="50529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cene-Set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 the scene for the lesson by u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ig, open question or problem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ving task that requires abs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ing skills. Anticipate res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follow-up so as to work the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A lesson on the Vietnam W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ld begin with the question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Americans think they fight wars,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ttp://th09.deviantart.net/fs39/300W/i/2008/323/4/5/Commission__Setting_the_scene_by_NikkieCole.png"/>
          <p:cNvPicPr/>
          <p:nvPr/>
        </p:nvPicPr>
        <p:blipFill>
          <a:blip r:embed="rId1"/>
          <a:stretch/>
        </p:blipFill>
        <p:spPr>
          <a:xfrm>
            <a:off x="4965840" y="1643040"/>
            <a:ext cx="3630600" cy="43578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ll your neighb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their neighbou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s of articulating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a question, give think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then ask students to tell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ighbour their thou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ll students what the new topic is and then ask them to tell their neighbour everything they know about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www.dreamstime.com/whispering-thumb3002293.jpg"/>
          <p:cNvPicPr/>
          <p:nvPr/>
        </p:nvPicPr>
        <p:blipFill>
          <a:blip r:embed="rId1"/>
          <a:stretch/>
        </p:blipFill>
        <p:spPr>
          <a:xfrm>
            <a:off x="4827600" y="1766880"/>
            <a:ext cx="3917880" cy="3305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dea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you have received an ans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 question, open up th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ind it by asking what others th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id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others think about _________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idea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http://porteightyeight.files.wordpress.com/2009/06/bright-idea.jpg"/>
          <p:cNvPicPr/>
          <p:nvPr/>
        </p:nvPicPr>
        <p:blipFill>
          <a:blip r:embed="rId1"/>
          <a:stretch/>
        </p:blipFill>
        <p:spPr>
          <a:xfrm>
            <a:off x="3857760" y="2714760"/>
            <a:ext cx="4952880" cy="37144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ou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ounce answers around the room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 on understanding and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develop stronger reaso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 of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immy, what do you think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answer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ndra, how could you devel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answer to include more detail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l, how might you combine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 heard into a single answer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http://topendsports.com/clipart/pics/albums/basketball/bouncing_ball.gif"/>
          <p:cNvPicPr/>
          <p:nvPr/>
        </p:nvPicPr>
        <p:blipFill>
          <a:blip r:embed="rId1"/>
          <a:srcRect l="0" t="0" r="7738" b="0"/>
          <a:stretch/>
        </p:blipFill>
        <p:spPr>
          <a:xfrm>
            <a:off x="4560840" y="1900080"/>
            <a:ext cx="4094280" cy="41720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 and rec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it for students to draw out mo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key words you are asking for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reframe the question – ask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synthesis which recaps the who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by joining all these wo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o a single coherent answ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ragraph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http://www.mrs-smiths-class.com/recap.jpg"/>
          <p:cNvPicPr/>
          <p:nvPr/>
        </p:nvPicPr>
        <p:blipFill>
          <a:blip r:embed="rId1"/>
          <a:stretch/>
        </p:blipFill>
        <p:spPr>
          <a:xfrm>
            <a:off x="4857840" y="20718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correct 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incorrect answers 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en dismissing some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ause it is wrong, or saying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tc. Us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ption in reasoning to dra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ut into th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leads to improv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sconceived reasoning and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e in which it is OK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o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http://www.junkscience.com/JSJ_Course/jsjudocourse/wrong.jpg"/>
          <p:cNvPicPr/>
          <p:nvPr/>
        </p:nvPicPr>
        <p:blipFill>
          <a:blip r:embed="rId1"/>
          <a:stretch/>
        </p:blipFill>
        <p:spPr>
          <a:xfrm>
            <a:off x="4786200" y="1714680"/>
            <a:ext cx="3876840" cy="4311360"/>
          </a:xfrm>
          <a:prstGeom prst="rect">
            <a:avLst/>
          </a:prstGeom>
          <a:ln w="0">
            <a:noFill/>
          </a:ln>
        </p:spPr>
      </p:pic>
      <p:sp>
        <p:nvSpPr>
          <p:cNvPr id="140" name="Oval Callout 8"/>
          <p:cNvSpPr/>
          <p:nvPr/>
        </p:nvSpPr>
        <p:spPr>
          <a:xfrm rot="3146400">
            <a:off x="6710040" y="2158560"/>
            <a:ext cx="2152440" cy="176868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143840" y="2571840"/>
            <a:ext cx="135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glad tha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the wrong answer… l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discuss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is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ise questions that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 common miscon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conflict that requires disc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ore ambiguity and encourage discussion and clar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http://images.suite101.com/966420_com_question.jpg"/>
          <p:cNvPicPr/>
          <p:nvPr/>
        </p:nvPicPr>
        <p:blipFill>
          <a:blip r:embed="rId1"/>
          <a:stretch/>
        </p:blipFill>
        <p:spPr>
          <a:xfrm>
            <a:off x="4786200" y="1714680"/>
            <a:ext cx="3953160" cy="39528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 learning journal in whi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can reflect on and re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learning. It could include plen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vities, a target setting chart, 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goal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http://www.darton.edu/programs/learning-support/images/journal.gif"/>
          <p:cNvPicPr/>
          <p:nvPr/>
        </p:nvPicPr>
        <p:blipFill>
          <a:blip r:embed="rId1"/>
          <a:stretch/>
        </p:blipFill>
        <p:spPr>
          <a:xfrm>
            <a:off x="5222880" y="1714680"/>
            <a:ext cx="3921120" cy="46846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draf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lesson time to redraft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allows students time to focus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eedback for improvement th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been giv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reinforces the value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edback and allows them to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it in a supportiv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http://www.baldworm.co.uk/images/placard_one.jpg"/>
          <p:cNvPicPr/>
          <p:nvPr/>
        </p:nvPicPr>
        <p:blipFill>
          <a:blip r:embed="rId1"/>
          <a:stretch/>
        </p:blipFill>
        <p:spPr>
          <a:xfrm>
            <a:off x="4738680" y="2357280"/>
            <a:ext cx="1333440" cy="1000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http://www.baldworm.co.uk/images/placard_two.jpg"/>
          <p:cNvPicPr/>
          <p:nvPr/>
        </p:nvPicPr>
        <p:blipFill>
          <a:blip r:embed="rId2"/>
          <a:stretch/>
        </p:blipFill>
        <p:spPr>
          <a:xfrm>
            <a:off x="7286760" y="3500280"/>
            <a:ext cx="952200" cy="7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http://www.baldworm.co.uk/images/placard_three.jpg"/>
          <p:cNvPicPr/>
          <p:nvPr/>
        </p:nvPicPr>
        <p:blipFill>
          <a:blip r:embed="rId3"/>
          <a:stretch/>
        </p:blipFill>
        <p:spPr>
          <a:xfrm>
            <a:off x="5572080" y="5572080"/>
            <a:ext cx="952560" cy="714600"/>
          </a:xfrm>
          <a:prstGeom prst="rect">
            <a:avLst/>
          </a:prstGeom>
          <a:ln w="0">
            <a:noFill/>
          </a:ln>
        </p:spPr>
      </p:pic>
      <p:sp>
        <p:nvSpPr>
          <p:cNvPr id="156" name="Down Arrow 9"/>
          <p:cNvSpPr/>
          <p:nvPr/>
        </p:nvSpPr>
        <p:spPr>
          <a:xfrm rot="18099600">
            <a:off x="6555240" y="2986560"/>
            <a:ext cx="357120" cy="100008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wn Arrow 10"/>
          <p:cNvSpPr/>
          <p:nvPr/>
        </p:nvSpPr>
        <p:spPr>
          <a:xfrm rot="2329800">
            <a:off x="6881760" y="4183200"/>
            <a:ext cx="357120" cy="15825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designing written tasks to 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ongside oral work, intend for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and show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key features of what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lear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http://regmedia.co.uk/2007/02/12/rim_bb_8800_1.jpg"/>
          <p:cNvPicPr/>
          <p:nvPr/>
        </p:nvPicPr>
        <p:blipFill>
          <a:blip r:embed="rId1"/>
          <a:stretch/>
        </p:blipFill>
        <p:spPr>
          <a:xfrm>
            <a:off x="4357800" y="3071880"/>
            <a:ext cx="4286160" cy="34480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write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171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or exampl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bout what they would like to know on a new 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ask the teacher or other students in order to assess their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 demonstrate their learning/misconceptions/areas they would like to further expl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classroom could have a question bo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re students drop question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end of a less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Or, a plenary could involve students wri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questions that the class then work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ogether, or forms the basis of the next less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www.ljmu.ac.uk/Images_Everyone/signingdocument.jpg"/>
          <p:cNvPicPr/>
          <p:nvPr/>
        </p:nvPicPr>
        <p:blipFill>
          <a:blip r:embed="rId1"/>
          <a:stretch/>
        </p:blipFill>
        <p:spPr>
          <a:xfrm>
            <a:off x="5072040" y="1357200"/>
            <a:ext cx="3228840" cy="50101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mprovement Guid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making comments on pupil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, treat them like gui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wing how the pupil can impr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this by asking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 in the same way when p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ing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the notion of guidanc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it differs from other typ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haviour (i.e. prescrip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monishment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http://www.insidefurniture.com/insidefurniture/images/guidance.jpg"/>
          <p:cNvPicPr/>
          <p:nvPr/>
        </p:nvPicPr>
        <p:blipFill>
          <a:blip r:embed="rId1"/>
          <a:stretch/>
        </p:blipFill>
        <p:spPr>
          <a:xfrm>
            <a:off x="4572000" y="1652760"/>
            <a:ext cx="4344840" cy="42447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ive students opportunities to fol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comments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time in the lesson to talk to individual stu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e a written dialogue in the stud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a comment tracker or targets sheet to formalise the dialogue in a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chfs.ky.gov/NR/rdonlyres/ECCA0B2A-9313-4A81-8F6E-4B0012EC34E8/0/FollowSignsArrows.jpg"/>
          <p:cNvPicPr/>
          <p:nvPr/>
        </p:nvPicPr>
        <p:blipFill>
          <a:blip r:embed="rId1"/>
          <a:stretch/>
        </p:blipFill>
        <p:spPr>
          <a:xfrm>
            <a:off x="4900680" y="2043000"/>
            <a:ext cx="3895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roup feedback to a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peer-assessment of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n help make the teacher awar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arning needs in a manageabl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a group feeds back then it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attention and pres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hat has already b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ed and sorted (meaning l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petition for the teach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http://www.kdgp.com.au/images/Feedback.jpg"/>
          <p:cNvPicPr/>
          <p:nvPr/>
        </p:nvPicPr>
        <p:blipFill>
          <a:blip r:embed="rId1"/>
          <a:stretch/>
        </p:blipFill>
        <p:spPr>
          <a:xfrm>
            <a:off x="4572000" y="1428840"/>
            <a:ext cx="4476600" cy="44766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mark each others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ccording to assessment cri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ncourages reflection and thought ab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learning as well as allowing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see model work and reason pa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pportunities to do this through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dividual lessons and schem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http://newsimg.bbc.co.uk/media/images/39228000/jpg/_39228663_marking203.jpg"/>
          <p:cNvPicPr/>
          <p:nvPr/>
        </p:nvPicPr>
        <p:blipFill>
          <a:blip r:embed="rId1"/>
          <a:stretch/>
        </p:blipFill>
        <p:spPr>
          <a:xfrm>
            <a:off x="4570560" y="2266920"/>
            <a:ext cx="3841560" cy="28767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um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eck class understanding of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 are teaching by asking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show their thum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up = I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half way = sor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umbs down = I d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ge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6" descr="ist2_4796726-thumbs-up-icon.jpg image by senordemais"/>
          <p:cNvPicPr/>
          <p:nvPr/>
        </p:nvPicPr>
        <p:blipFill>
          <a:blip r:embed="rId1"/>
          <a:stretch/>
        </p:blipFill>
        <p:spPr>
          <a:xfrm>
            <a:off x="5072040" y="1857240"/>
            <a:ext cx="3619440" cy="3619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 Collab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 assessment requires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 collaboratively. Indeed, AfL i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aborative enterprise. Therefo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ly teach skills of collabo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process can be assist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ng collaboration with pup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making it visible as a part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http://nextup.files.wordpress.com/2007/09/collaboration.jpg"/>
          <p:cNvPicPr/>
          <p:nvPr/>
        </p:nvPicPr>
        <p:blipFill>
          <a:blip r:embed="rId1"/>
          <a:stretch/>
        </p:blipFill>
        <p:spPr>
          <a:xfrm>
            <a:off x="5191200" y="1976400"/>
            <a:ext cx="3238560" cy="323856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ffic-Light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vising a topic or subject,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the different areas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and ask them to traffic l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ording to their grasp of e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equently, students sh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le to target their revision m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ly and engage in it activel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her than simply revie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erything they have done 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ssively over their entir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http://ericshepherd.files.wordpress.com/2009/05/image14.png"/>
          <p:cNvPicPr/>
          <p:nvPr/>
        </p:nvPicPr>
        <p:blipFill>
          <a:blip r:embed="rId1"/>
          <a:stretch/>
        </p:blipFill>
        <p:spPr>
          <a:xfrm>
            <a:off x="5072040" y="1500120"/>
            <a:ext cx="3521160" cy="40719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te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preparing for exams,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te their own question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n practice answering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 makes learners think explici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out the underlying structure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ment, as well as the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they are being ask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ipulate. Form as well as fun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http://www.powerauthority.on.ca/Storage.asp?StorageID=1609&amp;SiteLanguageID=1"/>
          <p:cNvPicPr/>
          <p:nvPr/>
        </p:nvPicPr>
        <p:blipFill>
          <a:blip r:embed="rId1"/>
          <a:stretch/>
        </p:blipFill>
        <p:spPr>
          <a:xfrm>
            <a:off x="5429160" y="2286000"/>
            <a:ext cx="3301920" cy="3381480"/>
          </a:xfrm>
          <a:prstGeom prst="rect">
            <a:avLst/>
          </a:prstGeom>
          <a:ln w="0">
            <a:noFill/>
          </a:ln>
        </p:spPr>
      </p:pic>
      <p:sp>
        <p:nvSpPr>
          <p:cNvPr id="19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 Mark-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produce their 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-schemes working individually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groups. They can then peer-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f-assess work in accord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ese sche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 about the purpose of a mark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heme with students – judgemen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, standardisatio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http://homepages.which.net/~j.fish/images/pempro.gif"/>
          <p:cNvPicPr/>
          <p:nvPr/>
        </p:nvPicPr>
        <p:blipFill>
          <a:blip r:embed="rId1"/>
          <a:stretch/>
        </p:blipFill>
        <p:spPr>
          <a:xfrm>
            <a:off x="5429160" y="1928880"/>
            <a:ext cx="3057480" cy="3752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 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ents work in small group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ree on answers – when  test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turned or in other situ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cess of agreeing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lude reasoning over the validity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consensus answer, as well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ed negation of misconcep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 wrong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http://www.screenhead.com/wp-content/uploads/2008/10/jackson5.jpg"/>
          <p:cNvPicPr/>
          <p:nvPr/>
        </p:nvPicPr>
        <p:blipFill>
          <a:blip r:embed="rId1"/>
          <a:stretch/>
        </p:blipFill>
        <p:spPr>
          <a:xfrm>
            <a:off x="5143680" y="2143080"/>
            <a:ext cx="3504960" cy="31622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udents ask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643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opportunities for student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questions. This could be of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ers, of the teacher or as a me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develop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 box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 written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fers a different mean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for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 time for students to a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s about pieces of work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s open up assessment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iminate ambig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http://imgs.sfgate.com/c/pictures/2005/09/20/ba_bumschools20_073.jpg"/>
          <p:cNvPicPr/>
          <p:nvPr/>
        </p:nvPicPr>
        <p:blipFill>
          <a:blip r:embed="rId1"/>
          <a:srcRect l="0" t="0" r="0" b="4939"/>
          <a:stretch/>
        </p:blipFill>
        <p:spPr>
          <a:xfrm>
            <a:off x="4071960" y="1928880"/>
            <a:ext cx="4940280" cy="3036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ink through Tal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lking allows students to artic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ir thoughts and thus to lea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e thinking through tal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ctured group/pair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delling by teacher and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mall group work increases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face area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alk in the classro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opposed to whole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http://1.bp.blogspot.com/_lpT5VbPe0pc/SJ60e-b1m5I/AAAAAAAAAKg/rQ4fk0uvvg8/s400/ist2_4395316-chatting-heads.jpg"/>
          <p:cNvPicPr/>
          <p:nvPr/>
        </p:nvPicPr>
        <p:blipFill>
          <a:blip r:embed="rId1"/>
          <a:stretch/>
        </p:blipFill>
        <p:spPr>
          <a:xfrm>
            <a:off x="5214960" y="2143080"/>
            <a:ext cx="3619440" cy="361944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ert the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ead of asking a question t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s factual recall, invert it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 explicit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France a democracy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es it mean for a country to be a democracy?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http://www.gerryriskin.com/Question%20Mark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87520" cy="43815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X and 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why  X is an example of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n apple an example of a fru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a fox an example of a mam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ing in this way avoids factu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all and asks for the underl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soning to be made explic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http://wolfet.co.uk/images/wolfet_european_toxic_coldplay_x_and_y.jpg"/>
          <p:cNvPicPr/>
          <p:nvPr/>
        </p:nvPicPr>
        <p:blipFill>
          <a:blip r:embed="rId1"/>
          <a:stretch/>
        </p:blipFill>
        <p:spPr>
          <a:xfrm>
            <a:off x="5000760" y="1714680"/>
            <a:ext cx="3714480" cy="37144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ll you k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udents write down everyth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y know about ________ at th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art of the un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 teacher can then teach the uni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cordingly, using exis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knowledge and avoiding repeti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http://www.cite.auckland.ac.nz/content/images/pyramid.jpg"/>
          <p:cNvPicPr/>
          <p:nvPr/>
        </p:nvPicPr>
        <p:blipFill>
          <a:blip r:embed="rId1"/>
          <a:stretch/>
        </p:blipFill>
        <p:spPr>
          <a:xfrm>
            <a:off x="4929120" y="2286000"/>
            <a:ext cx="3952800" cy="30956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inforce the focus on redrafting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ent-only marking by insisting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ing evidence of stud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ons on their own work bef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oking at it (have to allow tim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http://gizmodo.com/assets/resources/2008/03/BrickCorrectionTap_05_640x.jpg"/>
          <p:cNvPicPr/>
          <p:nvPr/>
        </p:nvPicPr>
        <p:blipFill>
          <a:blip r:embed="rId1"/>
          <a:stretch/>
        </p:blipFill>
        <p:spPr>
          <a:xfrm>
            <a:off x="4929120" y="242892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http://www.global-b2b-network.com/direct/dbimage/50137007/A4_Laminator.jpg"/>
          <p:cNvPicPr/>
          <p:nvPr/>
        </p:nvPicPr>
        <p:blipFill>
          <a:blip r:embed="rId1"/>
          <a:stretch/>
        </p:blipFill>
        <p:spPr>
          <a:xfrm>
            <a:off x="3714840" y="1571760"/>
            <a:ext cx="5143320" cy="51433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aminated Cri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laminated, student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iendly assessment crite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veying Pro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a means of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essment to convey progress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and thus make what th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e doing more meaning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learning between un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a learning jour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 to past targets and highlight where the student is achieving th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ve a target chart where it is visible how the student has prog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 assessment to student goal-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http://www.asconveyorsystems.co.uk/images/Dorner%20Conveyor%20Belt%20Vacuum%201.jpg"/>
          <p:cNvPicPr/>
          <p:nvPr/>
        </p:nvPicPr>
        <p:blipFill>
          <a:blip r:embed="rId1"/>
          <a:stretch/>
        </p:blipFill>
        <p:spPr>
          <a:xfrm>
            <a:off x="4643280" y="3214800"/>
            <a:ext cx="3810240" cy="2628720"/>
          </a:xfrm>
          <a:prstGeom prst="rect">
            <a:avLst/>
          </a:prstGeom>
          <a:ln w="0">
            <a:noFill/>
          </a:ln>
        </p:spPr>
      </p:pic>
      <p:pic>
        <p:nvPicPr>
          <p:cNvPr id="230" name="Rectangle 7" descr=""/>
          <p:cNvPicPr/>
          <p:nvPr/>
        </p:nvPicPr>
        <p:blipFill>
          <a:blip r:embed="rId2"/>
          <a:stretch/>
        </p:blipFill>
        <p:spPr>
          <a:xfrm>
            <a:off x="5499000" y="3541680"/>
            <a:ext cx="3187800" cy="17002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engaged in discussion take k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ds and look at them specific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 how they are being used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there any ambigu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everyone using the word i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me wa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http://bermudaonion.files.wordpress.com/2009/01/vocabulary.gif"/>
          <p:cNvPicPr/>
          <p:nvPr/>
        </p:nvPicPr>
        <p:blipFill>
          <a:blip r:embed="rId1"/>
          <a:stretch/>
        </p:blipFill>
        <p:spPr>
          <a:xfrm>
            <a:off x="4357800" y="2714760"/>
            <a:ext cx="4381560" cy="2809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k students to communicate thin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different mediums – not ju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ing; drawing, drama, map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ulptur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edium is the messag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circumscribes to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t how communication can ta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ace. Using alternative mediu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ows the teacher t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ud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 from different ang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http://www.ampro.com/assets/images/Communication_000.jpg"/>
          <p:cNvPicPr/>
          <p:nvPr/>
        </p:nvPicPr>
        <p:blipFill>
          <a:blip r:embed="rId1"/>
          <a:stretch/>
        </p:blipFill>
        <p:spPr>
          <a:xfrm>
            <a:off x="4564080" y="2057400"/>
            <a:ext cx="4079880" cy="29494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oughtful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alogue between teacher and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hould be thoughtful, refle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focussed to evoke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nderstanding, and conducted so that 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pils have an opportunity to exp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ir ide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(Page 12, Inside the Black Box, Paul Black &amp; Dylan William, nferNelson, 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scuss the quality of dialogue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udents and ask them to articulate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s purpose is, why, and how (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cessary) it may be improv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http://www.wao.org.my/graphics/dialogue.jpg"/>
          <p:cNvPicPr/>
          <p:nvPr/>
        </p:nvPicPr>
        <p:blipFill>
          <a:blip r:embed="rId1"/>
          <a:stretch/>
        </p:blipFill>
        <p:spPr>
          <a:xfrm>
            <a:off x="5072040" y="1630440"/>
            <a:ext cx="3571920" cy="3690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ent-only ma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-only marking provides stud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ith a focus for progression instead of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ward or punishment for their ego (as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rade do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could be made in books, in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ble at the front of books, in a lear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ary or journal. The latter are helpful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acher and student to track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ession of comments and se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rove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ents should make it clear how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udent can impro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activities and work with feedback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nd – let the design assist the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http://www.ltscotland.org.uk/learningaboutlearning/images/abbey_teacherwork_tcm4-419188.png"/>
          <p:cNvPicPr/>
          <p:nvPr/>
        </p:nvPicPr>
        <p:blipFill>
          <a:blip r:embed="rId1"/>
          <a:stretch/>
        </p:blipFill>
        <p:spPr>
          <a:xfrm>
            <a:off x="4429080" y="2500200"/>
            <a:ext cx="4429080" cy="295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edback Sandw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deliver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ways, two feed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dwiches’ are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tructive criticism with explanation of how to impr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ual statement – I liked….because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w/Next tim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ve statement e.g. a question based on th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6" descr="http://www.kellyskindergarten.com/Games/GamestoMake/images/sandwich.JPG"/>
          <p:cNvPicPr/>
          <p:nvPr/>
        </p:nvPicPr>
        <p:blipFill>
          <a:blip r:embed="rId1"/>
          <a:stretch/>
        </p:blipFill>
        <p:spPr>
          <a:xfrm>
            <a:off x="4286160" y="200016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oo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28760" y="1285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nd time ensuring that there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ensus between yourself and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pils over what makes a pie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 ‘good’, and how they a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cted to achieve it. Use ques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ch a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you tell me what makes a pie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work good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feel about comments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always know what you need to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/think about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you know when you have don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’ piece of work?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http://www.betterproductdesign.net/images/design_team4.gif"/>
          <p:cNvPicPr/>
          <p:nvPr/>
        </p:nvPicPr>
        <p:blipFill>
          <a:blip r:embed="rId1"/>
          <a:stretch/>
        </p:blipFill>
        <p:spPr>
          <a:xfrm>
            <a:off x="4357800" y="1214280"/>
            <a:ext cx="4651200" cy="48960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f-evaluation involves learning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, whereas self-assessment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 learn. To train pupils in self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on, use questions such 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nk about what has happened w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ing has take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really made you think? What did yo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difficu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do you need more help with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are you pleased abou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have you learnt new about X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 would you change the lear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vity to suit another clas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can model answers to the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 show the pupils how to self-eval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http://images.businessweek.com/ss/09/01/0130_career_stagnation/image/ss_12.jpg"/>
          <p:cNvPicPr/>
          <p:nvPr/>
        </p:nvPicPr>
        <p:blipFill>
          <a:blip r:embed="rId1"/>
          <a:stretch/>
        </p:blipFill>
        <p:spPr>
          <a:xfrm>
            <a:off x="4572000" y="2643120"/>
            <a:ext cx="4245120" cy="2476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‘good’ ques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with students what make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’ question. The proces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icitly show them the dif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open and closed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then come up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on a topic and dec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are best, and then move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and answer the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http://crescendodesignblog.files.wordpress.com/2009/01/kansascity-statue-kcmo-1824740-o.jpg"/>
          <p:cNvPicPr/>
          <p:nvPr/>
        </p:nvPicPr>
        <p:blipFill>
          <a:blip r:embed="rId1"/>
          <a:stretch/>
        </p:blipFill>
        <p:spPr>
          <a:xfrm>
            <a:off x="4071960" y="3429000"/>
            <a:ext cx="4924440" cy="32608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6880" y="-360"/>
            <a:ext cx="507204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571320"/>
            <a:ext cx="7972560" cy="3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aphic organisers to help pupils self-ass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2657520" cy="27144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3000240" y="1071720"/>
            <a:ext cx="2428920" cy="298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42920" y="4143240"/>
            <a:ext cx="2681280" cy="198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"/>
          <p:cNvPicPr/>
          <p:nvPr/>
        </p:nvPicPr>
        <p:blipFill>
          <a:blip r:embed="rId4"/>
          <a:stretch/>
        </p:blipFill>
        <p:spPr>
          <a:xfrm>
            <a:off x="6000840" y="1143000"/>
            <a:ext cx="2676600" cy="2676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"/>
          <p:cNvPicPr/>
          <p:nvPr/>
        </p:nvPicPr>
        <p:blipFill>
          <a:blip r:embed="rId5"/>
          <a:stretch/>
        </p:blipFill>
        <p:spPr>
          <a:xfrm>
            <a:off x="2928960" y="3929040"/>
            <a:ext cx="2627280" cy="2257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6"/>
          <a:stretch/>
        </p:blipFill>
        <p:spPr>
          <a:xfrm>
            <a:off x="3071880" y="6210360"/>
            <a:ext cx="246708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Straight Connector 11"/>
          <p:cNvSpPr/>
          <p:nvPr/>
        </p:nvSpPr>
        <p:spPr>
          <a:xfrm flipH="1">
            <a:off x="14256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2"/>
          <p:cNvSpPr/>
          <p:nvPr/>
        </p:nvSpPr>
        <p:spPr>
          <a:xfrm flipH="1">
            <a:off x="1428480" y="378612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3"/>
          <p:cNvSpPr/>
          <p:nvPr/>
        </p:nvSpPr>
        <p:spPr>
          <a:xfrm flipH="1">
            <a:off x="14256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4"/>
          <p:cNvSpPr/>
          <p:nvPr/>
        </p:nvSpPr>
        <p:spPr>
          <a:xfrm flipH="1">
            <a:off x="1428480" y="6143760"/>
            <a:ext cx="13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6"/>
          <p:cNvSpPr/>
          <p:nvPr/>
        </p:nvSpPr>
        <p:spPr>
          <a:xfrm flipV="1">
            <a:off x="278604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8"/>
          <p:cNvSpPr/>
          <p:nvPr/>
        </p:nvSpPr>
        <p:spPr>
          <a:xfrm flipV="1">
            <a:off x="142920" y="4142880"/>
            <a:ext cx="0" cy="200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20"/>
          <p:cNvSpPr/>
          <p:nvPr/>
        </p:nvSpPr>
        <p:spPr>
          <a:xfrm>
            <a:off x="300024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21"/>
          <p:cNvSpPr/>
          <p:nvPr/>
        </p:nvSpPr>
        <p:spPr>
          <a:xfrm>
            <a:off x="300024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3"/>
          <p:cNvSpPr/>
          <p:nvPr/>
        </p:nvSpPr>
        <p:spPr>
          <a:xfrm>
            <a:off x="5429160" y="2565360"/>
            <a:ext cx="0" cy="13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4"/>
          <p:cNvSpPr/>
          <p:nvPr/>
        </p:nvSpPr>
        <p:spPr>
          <a:xfrm>
            <a:off x="5429160" y="1071720"/>
            <a:ext cx="0" cy="150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5"/>
          <p:cNvSpPr/>
          <p:nvPr/>
        </p:nvSpPr>
        <p:spPr>
          <a:xfrm>
            <a:off x="6000840" y="2637000"/>
            <a:ext cx="0" cy="114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6000840" y="114300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30"/>
          <p:cNvSpPr/>
          <p:nvPr/>
        </p:nvSpPr>
        <p:spPr>
          <a:xfrm>
            <a:off x="6000840" y="3786120"/>
            <a:ext cx="264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3"/>
          <p:cNvSpPr/>
          <p:nvPr/>
        </p:nvSpPr>
        <p:spPr>
          <a:xfrm>
            <a:off x="5572080" y="54230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34"/>
          <p:cNvSpPr/>
          <p:nvPr/>
        </p:nvSpPr>
        <p:spPr>
          <a:xfrm>
            <a:off x="5572080" y="3929040"/>
            <a:ext cx="0" cy="150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37"/>
          <p:cNvSpPr/>
          <p:nvPr/>
        </p:nvSpPr>
        <p:spPr>
          <a:xfrm>
            <a:off x="5929200" y="5429160"/>
            <a:ext cx="32148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 these are taken from </a:t>
            </a: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aia.org.uk/pdf/Publications/AAIAformat4.pdf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page 19)</a:t>
            </a: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38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beginning of a topic pupils create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id with three column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Want To Kno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They Have Lear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 begin by brainstorming and filling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first two columns and then return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hird at the end of the unit (or ref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out)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extra column ‘How Will I Lear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8" descr="http://www.educationtechnologies.com/images/3kids_kwl03s.gif"/>
          <p:cNvPicPr/>
          <p:nvPr/>
        </p:nvPicPr>
        <p:blipFill>
          <a:blip r:embed="rId1"/>
          <a:stretch/>
        </p:blipFill>
        <p:spPr>
          <a:xfrm>
            <a:off x="4938840" y="1785960"/>
            <a:ext cx="3733560" cy="40003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plenary or a starter referring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lesson, pupils share with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new things they ha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ea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found diffic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hing they would like to learn in the fu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http://www.onelovesouthernafrica.org/wp-content/uploads/2009/01/talk.jpg"/>
          <p:cNvPicPr/>
          <p:nvPr/>
        </p:nvPicPr>
        <p:blipFill>
          <a:blip r:embed="rId1"/>
          <a:stretch/>
        </p:blipFill>
        <p:spPr>
          <a:xfrm>
            <a:off x="4857840" y="2071800"/>
            <a:ext cx="3740040" cy="37400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t-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post-it notes to evaluat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, pairs or individuals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lear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eas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have I found diffic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I want to know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http://www.designcouncil.org.uk/DCImages/About%20Design/Business%20Essentials/Invention/Post-It%20notes%20LRG.jpg"/>
          <p:cNvPicPr/>
          <p:nvPr/>
        </p:nvPicPr>
        <p:blipFill>
          <a:blip r:embed="rId1"/>
          <a:stretch/>
        </p:blipFill>
        <p:spPr>
          <a:xfrm>
            <a:off x="4643280" y="1857240"/>
            <a:ext cx="3895920" cy="38959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ponse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ed or partnership oral ma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invite a partner or a group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or comment on their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t to be effective, students shou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ware of learning objectiv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cess criteria. They should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eciate the role of a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ner – to offer positiv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ive feedback arou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ing go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could be given prom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to ask the person who h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e the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www.iqpc.com/uploadedImages/Training/Asia_Training/The_Gateway/Assets/111285.JPG"/>
          <p:cNvPicPr/>
          <p:nvPr/>
        </p:nvPicPr>
        <p:blipFill>
          <a:blip r:embed="rId1"/>
          <a:stretch/>
        </p:blipFill>
        <p:spPr>
          <a:xfrm>
            <a:off x="5643720" y="1500120"/>
            <a:ext cx="2752560" cy="42674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s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l pupils they should only raise the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 to ask a question, not to answer 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eacher then chooses pupils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wer, therefore gaining information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ther everyone is lear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lasstools.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ruit mach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e on here where you can inp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s, save it and play it to choose pup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ames on lollipop sticks and pull 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random to ans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numbers on balls or counter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lly to register or seating position and r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with every cla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http://www.samstoybox.com/toypics/HandsDownBox.jpg"/>
          <p:cNvPicPr/>
          <p:nvPr/>
        </p:nvPicPr>
        <p:blipFill>
          <a:blip r:embed="rId2"/>
          <a:stretch/>
        </p:blipFill>
        <p:spPr>
          <a:xfrm>
            <a:off x="4572000" y="1857240"/>
            <a:ext cx="4362480" cy="3009960"/>
          </a:xfrm>
          <a:prstGeom prst="rect">
            <a:avLst/>
          </a:prstGeom>
          <a:ln w="0">
            <a:noFill/>
          </a:ln>
        </p:spPr>
      </p:pic>
      <p:sp>
        <p:nvSpPr>
          <p:cNvPr id="30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d-unit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ving an assessment at the end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 may not provide time for you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o over areas student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uggled with, or in which there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misconce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ing assessment during a unit (i.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 5 of 7) allows time to review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flect and re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also gives the teacher 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focus explicitly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as of weak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ed by evid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http://carrieanddanielle.com/wp-content/uploads/2008/07/grouse-grind-three-quarter-mark.jpg"/>
          <p:cNvPicPr/>
          <p:nvPr/>
        </p:nvPicPr>
        <p:blipFill>
          <a:blip r:embed="rId1"/>
          <a:stretch/>
        </p:blipFill>
        <p:spPr>
          <a:xfrm>
            <a:off x="4572000" y="2286000"/>
            <a:ext cx="4191120" cy="3143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Question 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does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f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you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you explain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might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http://grandpacliff.com/InvSp/Img-Inv/Img-JapKnot/JapKnot-stems-3133-50-pt.jpg"/>
          <p:cNvPicPr/>
          <p:nvPr/>
        </p:nvPicPr>
        <p:blipFill>
          <a:blip r:embed="rId1"/>
          <a:stretch/>
        </p:blipFill>
        <p:spPr>
          <a:xfrm>
            <a:off x="5072040" y="1428840"/>
            <a:ext cx="3638520" cy="46861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ting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ing through the room whil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e engaged in an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 the teacher can coll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learning, emplo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assessment strategie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ene where appropri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http://3.bp.blogspot.com/_e-NZkYgfbbQ/SFQrXTxvAGI/AAAAAAAAB-A/TD6jbKx0boc/s400/Warren_G_-_Regulate_G_Funk_Era_-_Front.jpg"/>
          <p:cNvPicPr/>
          <p:nvPr/>
        </p:nvPicPr>
        <p:blipFill>
          <a:blip r:embed="rId1"/>
          <a:srcRect l="0" t="0" r="0" b="13748"/>
          <a:stretch/>
        </p:blipFill>
        <p:spPr>
          <a:xfrm>
            <a:off x="4929120" y="1785960"/>
            <a:ext cx="3810240" cy="32860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 C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minate a set of cards so e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the class has four,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B,C and D written on them. As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with four answer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s can show you their answ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them not to look at 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’s response so as to cop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6" descr="http://api.ning.com/files/WdN1Abk4ruK5tQejqnN6d6*Yz7XXWiEfSmxJrMW5tDJ0Ssi-DPxp-oIQQuuCoZMC8tLJza3LxhTUhnZD63jWQbyL1Ncae-3X/ABCD.jpg"/>
          <p:cNvPicPr/>
          <p:nvPr/>
        </p:nvPicPr>
        <p:blipFill>
          <a:blip r:embed="rId1"/>
          <a:stretch/>
        </p:blipFill>
        <p:spPr>
          <a:xfrm>
            <a:off x="4572000" y="2000160"/>
            <a:ext cx="4276800" cy="3862440"/>
          </a:xfrm>
          <a:prstGeom prst="rect">
            <a:avLst/>
          </a:prstGeom>
          <a:ln w="0">
            <a:noFill/>
          </a:ln>
        </p:spPr>
      </p:pic>
      <p:sp>
        <p:nvSpPr>
          <p:cNvPr id="316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b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homework ask students to fi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best piece of work and then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l you why it is their best. Th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nation could refer to su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eria, levels, targe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http://newsimg.bbc.co.uk/media/images/40953000/jpg/_40953824_best_ni_1971_pa.jpg"/>
          <p:cNvPicPr/>
          <p:nvPr/>
        </p:nvPicPr>
        <p:blipFill>
          <a:blip r:embed="rId1"/>
          <a:stretch/>
        </p:blipFill>
        <p:spPr>
          <a:xfrm>
            <a:off x="3643200" y="3073320"/>
            <a:ext cx="5248440" cy="37846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and T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mini-whiteboards so that ve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can write or draw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and show it to you (or the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s) immedia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6" descr="http://www.janakenshop.co.uk/ekmps/shops/janaken/images/mwbuh.jpg"/>
          <p:cNvPicPr/>
          <p:nvPr/>
        </p:nvPicPr>
        <p:blipFill>
          <a:blip r:embed="rId1"/>
          <a:srcRect l="1594" t="3193" r="2660" b="2660"/>
          <a:stretch/>
        </p:blipFill>
        <p:spPr>
          <a:xfrm>
            <a:off x="4143240" y="1576440"/>
            <a:ext cx="4857840" cy="47768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http://www.dsf.health.state.pa.us/health/lib/health/GoActivePMSColors1.jpg"/>
          <p:cNvPicPr/>
          <p:nvPr/>
        </p:nvPicPr>
        <p:blipFill>
          <a:blip r:embed="rId1"/>
          <a:stretch/>
        </p:blipFill>
        <p:spPr>
          <a:xfrm>
            <a:off x="3857760" y="2500200"/>
            <a:ext cx="5054400" cy="3279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Stud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AfL is students being activ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aged participants in their lear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of ways in which content can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ed for these ends, r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the other way rou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tent seems boring th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the approach fun or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and Short Te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aw together progression with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picture, students could set bo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and short term targe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ort term targets could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ed weekly or fortnightly and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term targets at the end of  te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ing a long term target may g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gency to the pupil’s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’s short term targets. It m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 the pupil to focus on wh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ly motivates them abou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http://almandsoncom.superpageshosting.com/nss-folder/pictures/smallCartoonHouse.gif"/>
          <p:cNvPicPr/>
          <p:nvPr/>
        </p:nvPicPr>
        <p:blipFill>
          <a:blip r:embed="rId1"/>
          <a:stretch/>
        </p:blipFill>
        <p:spPr>
          <a:xfrm>
            <a:off x="5048280" y="1647720"/>
            <a:ext cx="1762200" cy="2210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http://bp0.blogger.com/_4VSSbxhl00U/RqThxUQ1FxI/AAAAAAAAADs/ZE3Gij8oMes/s320/Cartoon+Castle.jpg"/>
          <p:cNvPicPr/>
          <p:nvPr/>
        </p:nvPicPr>
        <p:blipFill>
          <a:blip r:embed="rId2"/>
          <a:stretch/>
        </p:blipFill>
        <p:spPr>
          <a:xfrm>
            <a:off x="6858000" y="4016520"/>
            <a:ext cx="1895400" cy="21589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4" descr="http://www.magnetick.co.uk/media/gbu0/prodsm/magnetic-paper-a4-a3.jpg"/>
          <p:cNvPicPr/>
          <p:nvPr/>
        </p:nvPicPr>
        <p:blipFill>
          <a:blip r:embed="rId1"/>
          <a:stretch/>
        </p:blipFill>
        <p:spPr>
          <a:xfrm>
            <a:off x="5357880" y="3952800"/>
            <a:ext cx="2905200" cy="290520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ute P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identify the most signific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ful, meaningful, unlikely) t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have learnt during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2" descr="http://www.kelston.org.uk/assets/images/minute.jpg"/>
          <p:cNvPicPr/>
          <p:nvPr/>
        </p:nvPicPr>
        <p:blipFill>
          <a:blip r:embed="rId2"/>
          <a:stretch/>
        </p:blipFill>
        <p:spPr>
          <a:xfrm>
            <a:off x="5786280" y="1500120"/>
            <a:ext cx="1936800" cy="2576520"/>
          </a:xfrm>
          <a:prstGeom prst="rect">
            <a:avLst/>
          </a:prstGeom>
          <a:ln w="0">
            <a:noFill/>
          </a:ln>
        </p:spPr>
      </p:pic>
      <p:sp>
        <p:nvSpPr>
          <p:cNvPr id="338" name="TextBox 6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quiry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n enquiry question to stimul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level thinking in the lesson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emocratic is the United Kingd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our school so ethnically diver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nquiry-based learning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mpus.manchester.ac.uk/ceebl/ebl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2" descr="http://www.arabwebagency.com/images/enquiry-img.jpg"/>
          <p:cNvPicPr/>
          <p:nvPr/>
        </p:nvPicPr>
        <p:blipFill>
          <a:blip r:embed="rId2"/>
          <a:stretch/>
        </p:blipFill>
        <p:spPr>
          <a:xfrm>
            <a:off x="5143680" y="1571760"/>
            <a:ext cx="3295440" cy="4181400"/>
          </a:xfrm>
          <a:prstGeom prst="rect">
            <a:avLst/>
          </a:prstGeom>
          <a:ln w="0">
            <a:noFill/>
          </a:ln>
        </p:spPr>
      </p:pic>
      <p:sp>
        <p:nvSpPr>
          <p:cNvPr id="342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iley 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draw smiley faces to indicate how comfortable they are with the top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tbn0.google.com/images?q=tbn:bTWYMRfBSE6riM:http://www.plu.edu/~kcnstv26/img/smiley-face.jpg"/>
          <p:cNvPicPr/>
          <p:nvPr/>
        </p:nvPicPr>
        <p:blipFill>
          <a:blip r:embed="rId1"/>
          <a:stretch/>
        </p:blipFill>
        <p:spPr>
          <a:xfrm>
            <a:off x="642960" y="2714760"/>
            <a:ext cx="1685880" cy="1699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http://tbn0.google.com/images?q=tbn:Y51Ew6yX5Cpu4M:http://www.terceraescuadrilla.com/almacen/personal/DSLam/swg/smiley-indifferent.jpg"/>
          <p:cNvPicPr/>
          <p:nvPr/>
        </p:nvPicPr>
        <p:blipFill>
          <a:blip r:embed="rId2"/>
          <a:stretch/>
        </p:blipFill>
        <p:spPr>
          <a:xfrm>
            <a:off x="3786120" y="2786040"/>
            <a:ext cx="1762200" cy="17622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http://tbn3.google.com/images?q=tbn:HIeXjhQ3CVyXYM:http://static.bigstockphoto.com/thumbs/7/3/3/small/3376000.jpg"/>
          <p:cNvPicPr/>
          <p:nvPr/>
        </p:nvPicPr>
        <p:blipFill>
          <a:blip r:embed="rId3"/>
          <a:stretch/>
        </p:blipFill>
        <p:spPr>
          <a:xfrm>
            <a:off x="6572160" y="2714760"/>
            <a:ext cx="1762200" cy="17618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7"/>
          <p:cNvSpPr/>
          <p:nvPr/>
        </p:nvSpPr>
        <p:spPr>
          <a:xfrm>
            <a:off x="214200" y="48578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y to move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8"/>
          <p:cNvSpPr/>
          <p:nvPr/>
        </p:nvSpPr>
        <p:spPr>
          <a:xfrm>
            <a:off x="3286080" y="47862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 some parts but not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9"/>
          <p:cNvSpPr/>
          <p:nvPr/>
        </p:nvSpPr>
        <p:spPr>
          <a:xfrm>
            <a:off x="6215040" y="485784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understand and need to look at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questioning, insert the w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gh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o give students gre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y to think and expl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ible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s meaning of democra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might the meaning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ocracy 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first infers a single answer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y the teacher whereas the secon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herently more o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smarteconomy.typepad.com/.a/6a00d8341ed85853ef0105365f1211970c-800wi"/>
          <p:cNvPicPr/>
          <p:nvPr/>
        </p:nvPicPr>
        <p:blipFill>
          <a:blip r:embed="rId1"/>
          <a:stretch/>
        </p:blipFill>
        <p:spPr>
          <a:xfrm>
            <a:off x="4572000" y="1857240"/>
            <a:ext cx="3968640" cy="279396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5429160" y="4714920"/>
            <a:ext cx="2857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might the Great Depression look like to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qu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upil has finished a piec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they draw a square on the pa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y do not understand the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olour it red, if they are so-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yellow and if A-OK the g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http://creativeclass.typepad.com/thecreativityexchange/images/red_sqaure.jpg"/>
          <p:cNvPicPr/>
          <p:nvPr/>
        </p:nvPicPr>
        <p:blipFill>
          <a:blip r:embed="rId1"/>
          <a:stretch/>
        </p:blipFill>
        <p:spPr>
          <a:xfrm>
            <a:off x="4786200" y="150012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printsandprintmaking.gov.au/images/small/154758/wicks-arthur-yellow-square.jpg"/>
          <p:cNvPicPr/>
          <p:nvPr/>
        </p:nvPicPr>
        <p:blipFill>
          <a:blip r:embed="rId2"/>
          <a:stretch/>
        </p:blipFill>
        <p:spPr>
          <a:xfrm>
            <a:off x="6929280" y="3571920"/>
            <a:ext cx="1704960" cy="17892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nigeltomm.files.wordpress.com/2009/02/green_square_nigel_tomm_m.jpg"/>
          <p:cNvPicPr/>
          <p:nvPr/>
        </p:nvPicPr>
        <p:blipFill>
          <a:blip r:embed="rId3"/>
          <a:stretch/>
        </p:blipFill>
        <p:spPr>
          <a:xfrm>
            <a:off x="5000760" y="4786200"/>
            <a:ext cx="1771560" cy="1771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7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iest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down one or tw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on which they are least cle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uld be from the prev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on, the rest of the uni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eding activity etc. The teac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class can then seek to reme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udd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" descr="http://users.ox.ac.uk/~sg/ridgeway/11%20Mud.jpg"/>
          <p:cNvPicPr/>
          <p:nvPr/>
        </p:nvPicPr>
        <p:blipFill>
          <a:blip r:embed="rId1"/>
          <a:stretch/>
        </p:blipFill>
        <p:spPr>
          <a:xfrm>
            <a:off x="4286160" y="2286000"/>
            <a:ext cx="4619880" cy="34639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-Sentence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write a sent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sing their knowledge of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 could have to inclu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, what when, why, how,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ntences could then be peer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ssed, re-drafted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http://www.hogdb.com/razorback-photos/albums/yearly_photos/1890s/1894/1894-Arkansas-Sentinel-Fayetteville-11131894.jpg"/>
          <p:cNvPicPr/>
          <p:nvPr/>
        </p:nvPicPr>
        <p:blipFill>
          <a:blip r:embed="rId1"/>
          <a:stretch/>
        </p:blipFill>
        <p:spPr>
          <a:xfrm>
            <a:off x="4500720" y="2230560"/>
            <a:ext cx="4457520" cy="2082600"/>
          </a:xfrm>
          <a:prstGeom prst="rect">
            <a:avLst/>
          </a:prstGeom>
          <a:ln w="0">
            <a:noFill/>
          </a:ln>
        </p:spPr>
      </p:pic>
      <p:sp>
        <p:nvSpPr>
          <p:cNvPr id="365" name="TextBox 5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ait-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ait time allows students time to th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therefore to produce answers. Als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 everyone in the class thinks at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ame speed or in the same way – wai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lows students to build their though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d explore what has been ask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2 types of wait time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acher speaks and then waits before taking student respon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tudent response ends and then teacher waits before responding. This gives the student space to elaborate or continue – or for another student to respo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ttp://www.leda-lite.co.uk/wait/wait_1.JPG"/>
          <p:cNvPicPr/>
          <p:nvPr/>
        </p:nvPicPr>
        <p:blipFill>
          <a:blip r:embed="rId1"/>
          <a:stretch/>
        </p:blipFill>
        <p:spPr>
          <a:xfrm>
            <a:off x="5286240" y="1214280"/>
            <a:ext cx="2857680" cy="47628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n vs cl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d questions can be usef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ever are not great at facilita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use of abstract thinking skill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couraging talking or eliciting mu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standing. Open question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e likely to do this and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 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d you go out last nigh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id you after school yester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http://www.photomagnets.com/openclosedledneonsign.jpg"/>
          <p:cNvPicPr/>
          <p:nvPr/>
        </p:nvPicPr>
        <p:blipFill>
          <a:blip r:embed="rId1"/>
          <a:stretch/>
        </p:blipFill>
        <p:spPr>
          <a:xfrm>
            <a:off x="4929120" y="1214280"/>
            <a:ext cx="3476520" cy="4857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4"/>
          <p:cNvSpPr/>
          <p:nvPr/>
        </p:nvSpPr>
        <p:spPr>
          <a:xfrm>
            <a:off x="7286760" y="0"/>
            <a:ext cx="185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AFL 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0:16:01Z</dcterms:created>
  <dc:creator>mgershon</dc:creator>
  <dc:description/>
  <dc:language>en-US</dc:language>
  <cp:lastModifiedBy>Glasshouse Country Christian College</cp:lastModifiedBy>
  <dcterms:modified xsi:type="dcterms:W3CDTF">2014-07-22T12:06:47Z</dcterms:modified>
  <cp:revision>35</cp:revision>
  <dc:subject/>
  <dc:title>Assessment For Learning Activities</dc:title>
</cp:coreProperties>
</file>